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1F4-82EF-43D9-9C78-4E441BF6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F0E2-944B-41BC-B757-B559E4D7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1909-081B-4883-91B2-DA8DC0EF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F35-4BEA-47B2-B588-D938C66F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6CA-D7E1-4392-8AF0-74E16F1C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3B44-9C22-4A44-BB30-B5BF3310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912-1FF8-40BD-A72E-621B26BE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12F-4AD2-4B44-AF8F-B68724D3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9AC7-4D61-4363-87CE-F898F8ED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70B-84D7-4ADF-A6E9-09FE42A2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842-5490-4CEB-A258-71A74CC8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B492-7CE4-4C32-990D-FD3DC92F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25E7-B4D9-4303-8A86-58991F9A7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 what students are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When given a stick, be able to beat a dead h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from course description –which tells what a course is abou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Review the many instructional media resources that are available to classroom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the condition under which the performance is expected to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Using PowerPoint softw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he aid of lecture not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hart of the Periodic Tab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calculat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use conditions when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expected to use something special when perform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A manual, a ruler, a tool, a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prohibited from using something when complet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calculator, notes,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have to perform the task under speci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time restraints, in front of an audience, in a cockp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a list of significant political figures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Given a list of significant political figu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n (Evalu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s the level of competence that must be reac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Be able to correctly solve 20 out of 30 multiplication problems in a five minute time fr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on Criter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d (within a time fra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uracy (how correct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( instructor determi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 Tri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, I want you to figure out if this person has achieved __________, Look for this…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other key question to 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ell does the learner have to perform to achieve the object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s students to meet the needs of all learners in the classroom, including those with special needs and the exceptional lear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a curriculum which will meet most of the instructional needs represented in the classro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identify 10 major star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identify 10 major sta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arts to an Instructional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eria (Assessme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525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s what the learner is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ual – You must be able to observe a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Dance, interview, sing,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overt behavior is expect (identify) use a visible behavior when writing the objective (circ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statement doesn’t have a visible performance it is NOT an obj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1676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verbs describe something you do NOT an internal state of be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 Draw a picture vs. Develop a positive attitude towards classical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0:57:57Z</dcterms:created>
  <dc:creator>CCS Staff</dc:creator>
  <dc:description/>
  <dc:language>en-US</dc:language>
  <cp:lastModifiedBy>BPS</cp:lastModifiedBy>
  <dcterms:modified xsi:type="dcterms:W3CDTF">2012-04-12T18:04:17Z</dcterms:modified>
  <cp:revision>7</cp:revision>
  <dc:subject/>
  <dc:title>Instructional Objectives</dc:title>
</cp:coreProperties>
</file>